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1146-6C1F-4B0D-8FE0-88FD8B1E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2497392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A13-C8D9-4B5A-878F-9096E687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C80-D4AF-443C-8EF2-2D79352F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887-A248-47A7-871D-04D5C644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76"/>
              </a:spcBef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20360" y="1730520"/>
            <a:ext cx="29162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76"/>
              </a:spcBef>
              <a:tabLst>
                <a:tab algn="l" pos="0"/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76"/>
              </a:spcBef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18C-952A-41FB-8F1A-528B0F7E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56360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620360" y="2497392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656360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48040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4080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62036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148040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2134080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34B-7423-4129-8887-F2C266DA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4D9-52CA-4E23-BB71-F7AC06EF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156-91F2-403F-A332-84D40AC8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1730520"/>
            <a:ext cx="29162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76"/>
              </a:spcBef>
              <a:tabLst>
                <a:tab algn="l" pos="0"/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C575-4A6A-467B-B8B2-D226AA55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B18-263C-49E1-83A4-5DB4C623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8F6-9438-4FC5-A4A2-F25D812B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757-379D-469F-A491-84D5F6FB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marL="1619280" indent="-161928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1" marL="3510000" indent="-134928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2" marL="5400720" indent="-107964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3" marL="7559640" indent="-107964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4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5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6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360" y="40044600"/>
            <a:ext cx="7559640" cy="230040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319640"/>
                <a:tab algn="l" pos="8639280"/>
              </a:tabLst>
              <a:defRPr b="0" lang="pt-BR" sz="57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319640"/>
                <a:tab algn="l" pos="8639280"/>
              </a:tabLst>
            </a:pPr>
            <a:r>
              <a:rPr b="0" lang="pt-BR" sz="57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40044600"/>
            <a:ext cx="10261800" cy="230040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40044600"/>
            <a:ext cx="7559640" cy="230040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319640"/>
                <a:tab algn="l" pos="8639280"/>
              </a:tabLst>
              <a:defRPr b="0" lang="pt-BR" sz="57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319640"/>
                <a:tab algn="l" pos="8639280"/>
              </a:tabLst>
            </a:pPr>
            <a:fld id="{86454AF8-AD87-4CDE-9FAD-5ABE44072338}" type="slidenum">
              <a:rPr b="0" lang="pt-BR" sz="57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20"/>
          <p:cNvSpPr/>
          <p:nvPr/>
        </p:nvSpPr>
        <p:spPr>
          <a:xfrm>
            <a:off x="2135160" y="11748960"/>
            <a:ext cx="131652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20"/>
          <p:cNvSpPr/>
          <p:nvPr/>
        </p:nvSpPr>
        <p:spPr>
          <a:xfrm>
            <a:off x="2063880" y="18392760"/>
            <a:ext cx="131648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marL="1619280" indent="-161928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1" marL="3510000" indent="-134928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2" marL="5400720" indent="-107964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3" marL="7559640" indent="-107964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4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5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6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CaixaDeTexto 62"/>
          <p:cNvSpPr/>
          <p:nvPr/>
        </p:nvSpPr>
        <p:spPr>
          <a:xfrm>
            <a:off x="28417680" y="4529160"/>
            <a:ext cx="31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OGO/BRA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9640"/>
                <a:tab algn="l" pos="86392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 INSTITUI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ângulo 5"/>
          <p:cNvSpPr/>
          <p:nvPr/>
        </p:nvSpPr>
        <p:spPr>
          <a:xfrm>
            <a:off x="4459320" y="3889440"/>
            <a:ext cx="2348532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NOME DA UNIVERSIDAD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NOME DO DEPARTAM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TÍTULO DO TRABALHO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Nome completo do autor 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; Nome completo do autor 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; Nome completo do autor 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ituição do autor, cidade/Estado, e-mail; 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Instituição do autor, cidade/Estado, e-mail; 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Instituição do autor, cidade/Estado, e-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9266400" y="32426280"/>
            <a:ext cx="182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360" bIns="4536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0" y="27825840"/>
            <a:ext cx="7273800" cy="6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2"/>
          <p:cNvSpPr/>
          <p:nvPr/>
        </p:nvSpPr>
        <p:spPr>
          <a:xfrm>
            <a:off x="15998760" y="22366440"/>
            <a:ext cx="18432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9"/>
          <p:cNvSpPr/>
          <p:nvPr/>
        </p:nvSpPr>
        <p:spPr>
          <a:xfrm>
            <a:off x="2463840" y="3806820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60"/>
          <p:cNvSpPr/>
          <p:nvPr/>
        </p:nvSpPr>
        <p:spPr>
          <a:xfrm>
            <a:off x="2464200" y="38301480"/>
            <a:ext cx="23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9640"/>
                <a:tab algn="l" pos="86392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96"/>
          <p:cNvSpPr/>
          <p:nvPr/>
        </p:nvSpPr>
        <p:spPr>
          <a:xfrm>
            <a:off x="1254240" y="3708720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97"/>
          <p:cNvSpPr/>
          <p:nvPr/>
        </p:nvSpPr>
        <p:spPr>
          <a:xfrm>
            <a:off x="1254240" y="37887120"/>
            <a:ext cx="183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98"/>
          <p:cNvSpPr/>
          <p:nvPr/>
        </p:nvSpPr>
        <p:spPr>
          <a:xfrm>
            <a:off x="1254240" y="37887120"/>
            <a:ext cx="183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99"/>
          <p:cNvSpPr/>
          <p:nvPr/>
        </p:nvSpPr>
        <p:spPr>
          <a:xfrm>
            <a:off x="1254240" y="37887120"/>
            <a:ext cx="183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24"/>
          <p:cNvSpPr/>
          <p:nvPr/>
        </p:nvSpPr>
        <p:spPr>
          <a:xfrm>
            <a:off x="2131920" y="29109960"/>
            <a:ext cx="131652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27"/>
          <p:cNvSpPr/>
          <p:nvPr/>
        </p:nvSpPr>
        <p:spPr>
          <a:xfrm>
            <a:off x="16803720" y="13158720"/>
            <a:ext cx="1472076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3960" indent="-453960"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 algn="just">
              <a:tabLst>
                <a:tab algn="l" pos="0"/>
                <a:tab algn="l" pos="4319640"/>
                <a:tab algn="l" pos="86392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ço Reservado para Conteúdo 53"/>
          <p:cNvSpPr/>
          <p:nvPr/>
        </p:nvSpPr>
        <p:spPr>
          <a:xfrm>
            <a:off x="1200240" y="12173040"/>
            <a:ext cx="14744520" cy="11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noAutofit/>
          </a:bodyPr>
          <a:p>
            <a:pPr algn="just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4319640"/>
                <a:tab algn="l" pos="86392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 pôster deve ser preparado conforme a estrutura do resumo submetido ao IV Encontro Brasileiro de Pesquisadores em Cooperativismo. Desta forma o trabalho deve conter introdução, materiais e métodos, resultados e discussões e conclusões. Acrescente a bibliografia. Para mostrar os resultados poderão ser usados gráficos, figuras, fotografias e tabelas. Como o conteúdo do pôster deve ser visível a uma distância de pelo menos 2 metros, escreva o texto usando fontes de tamanho adequado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4319640"/>
                <a:tab algn="l" pos="863928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eve constar o objetivo – Letra Arial, tamanho 5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ço Reservado para Conteúdo 53"/>
          <p:cNvSpPr/>
          <p:nvPr/>
        </p:nvSpPr>
        <p:spPr>
          <a:xfrm>
            <a:off x="843120" y="25317360"/>
            <a:ext cx="15012720" cy="72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Deve ser descrita a metodologia aplicada ao trabalho com dados acerca das amostras, os materiais utilizados (questionários, instrumentos de diagnósticos...) e os métodos utilizado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Letra Arial, tamanho 5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Conteúdo 53"/>
          <p:cNvSpPr/>
          <p:nvPr/>
        </p:nvSpPr>
        <p:spPr>
          <a:xfrm>
            <a:off x="17087760" y="26107920"/>
            <a:ext cx="1443672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4317840"/>
                <a:tab algn="l" pos="863604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tângulo de cantos arredondados 33"/>
          <p:cNvSpPr/>
          <p:nvPr/>
        </p:nvSpPr>
        <p:spPr>
          <a:xfrm>
            <a:off x="700200" y="23388480"/>
            <a:ext cx="15258960" cy="1578240"/>
          </a:xfrm>
          <a:prstGeom prst="roundRect">
            <a:avLst>
              <a:gd name="adj" fmla="val 16667"/>
            </a:avLst>
          </a:prstGeom>
          <a:solidFill>
            <a:srgbClr val="242d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MATERIAL E MÉTOD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ângulo de cantos arredondados 34"/>
          <p:cNvSpPr/>
          <p:nvPr/>
        </p:nvSpPr>
        <p:spPr>
          <a:xfrm>
            <a:off x="914400" y="31532400"/>
            <a:ext cx="15189120" cy="1578240"/>
          </a:xfrm>
          <a:prstGeom prst="roundRect">
            <a:avLst>
              <a:gd name="adj" fmla="val 16667"/>
            </a:avLst>
          </a:prstGeom>
          <a:solidFill>
            <a:srgbClr val="242d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RESULTADOS E DISCUSS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spaço Reservado para Conteúdo 53"/>
          <p:cNvSpPr/>
          <p:nvPr/>
        </p:nvSpPr>
        <p:spPr>
          <a:xfrm>
            <a:off x="16775280" y="25646040"/>
            <a:ext cx="14436720" cy="47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4317840"/>
                <a:tab algn="l" pos="863604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tângulo de cantos arredondados 36"/>
          <p:cNvSpPr/>
          <p:nvPr/>
        </p:nvSpPr>
        <p:spPr>
          <a:xfrm>
            <a:off x="16848000" y="29460960"/>
            <a:ext cx="15364080" cy="1577880"/>
          </a:xfrm>
          <a:prstGeom prst="roundRect">
            <a:avLst>
              <a:gd name="adj" fmla="val 16667"/>
            </a:avLst>
          </a:prstGeom>
          <a:solidFill>
            <a:srgbClr val="242d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CONCLUS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ângulo de cantos arredondados 37"/>
          <p:cNvSpPr/>
          <p:nvPr/>
        </p:nvSpPr>
        <p:spPr>
          <a:xfrm>
            <a:off x="16775280" y="36299880"/>
            <a:ext cx="15349320" cy="1576440"/>
          </a:xfrm>
          <a:prstGeom prst="roundRect">
            <a:avLst>
              <a:gd name="adj" fmla="val 16667"/>
            </a:avLst>
          </a:prstGeom>
          <a:solidFill>
            <a:srgbClr val="242d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REFERÊNCI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ço Reservado para Conteúdo 53"/>
          <p:cNvSpPr/>
          <p:nvPr/>
        </p:nvSpPr>
        <p:spPr>
          <a:xfrm>
            <a:off x="16803720" y="38087280"/>
            <a:ext cx="1501308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317840"/>
                <a:tab algn="l" pos="86360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manho da letra mínimo de 44 – em ABNT e somente as que aparecerem no texto do pôster, ou as mais relevant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ço Reservado para Conteúdo 53"/>
          <p:cNvSpPr/>
          <p:nvPr/>
        </p:nvSpPr>
        <p:spPr>
          <a:xfrm>
            <a:off x="914400" y="33890040"/>
            <a:ext cx="15014520" cy="57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A seguir estão apresentados alguns resultados que foram obtidos em estudos específicos e eles aqui foram expressos em gráficos, mas também podem ser utilizadas tabelas e fot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Letra Arial, tamanho 5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Conteúdo 53"/>
          <p:cNvSpPr/>
          <p:nvPr/>
        </p:nvSpPr>
        <p:spPr>
          <a:xfrm>
            <a:off x="16965720" y="31388040"/>
            <a:ext cx="150127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A apresentação deste pôster ocorrerá no IV Encontro Brasileiro de Pesquisadores em Cooperativismo, que acontecerá do dia 20 à 22 de novembro de 2017 em Brasília/DF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Letra Arial, tamanho 5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spaço Reservado para Conteúdo 53"/>
          <p:cNvSpPr/>
          <p:nvPr/>
        </p:nvSpPr>
        <p:spPr>
          <a:xfrm>
            <a:off x="17016480" y="10847520"/>
            <a:ext cx="15013080" cy="57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1"/>
          <p:cNvGraphicFramePr/>
          <p:nvPr/>
        </p:nvGraphicFramePr>
        <p:xfrm>
          <a:off x="19948680" y="13050720"/>
          <a:ext cx="8848440" cy="695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8680" y="13050720"/>
                    <a:ext cx="8848440" cy="695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Espaço Reservado para Conteúdo 53"/>
          <p:cNvSpPr/>
          <p:nvPr/>
        </p:nvSpPr>
        <p:spPr>
          <a:xfrm>
            <a:off x="16987680" y="21745440"/>
            <a:ext cx="14700240" cy="57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xxxxxxxxxxxxxxxxxxxxxxxxxxxxxxxxxxxxxxxxxxxxxxxxxxxxxxxxxxxxxxxxxxxxxxxxxxxxxxxxxxxxxxxxxxxxxxxxxxxxxxxxxxxxxxxxxxxxxxxxxxxxxxxxxxxxxxxxxxxxxxxxxxxxxxxxxxxxxxxxxxxx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Letra Arial, tamanho 5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ço Reservado para Conteúdo 53"/>
          <p:cNvSpPr/>
          <p:nvPr/>
        </p:nvSpPr>
        <p:spPr>
          <a:xfrm>
            <a:off x="16775280" y="10877400"/>
            <a:ext cx="15012720" cy="10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Figura 01: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xxxxxxxxxxxxxxxxxxxxxxxxxxxxxxxxxxx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onte: xxxxxxxxxxxxxxxx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ângulo de cantos arredondados 38"/>
          <p:cNvSpPr/>
          <p:nvPr/>
        </p:nvSpPr>
        <p:spPr>
          <a:xfrm>
            <a:off x="771480" y="10244160"/>
            <a:ext cx="15533640" cy="1576440"/>
          </a:xfrm>
          <a:prstGeom prst="roundRect">
            <a:avLst>
              <a:gd name="adj" fmla="val 16667"/>
            </a:avLst>
          </a:prstGeom>
          <a:solidFill>
            <a:srgbClr val="242d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INTRODUÇ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3:26:40Z</dcterms:created>
  <dc:creator>Work</dc:creator>
  <dc:description/>
  <dc:language>en-US</dc:language>
  <cp:lastModifiedBy>Serviço Nacional de Aprendizagem do Cooperativismo</cp:lastModifiedBy>
  <dcterms:modified xsi:type="dcterms:W3CDTF">2019-09-05T19:32:02Z</dcterms:modified>
  <cp:revision>18</cp:revision>
  <dc:subject/>
  <dc:title>Slide 1</dc:title>
</cp:coreProperties>
</file>