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98F-9035-44E5-AFFD-2F85257D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42F-2AC6-4462-BFD4-8CF9E51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00A-39BE-4264-A8EB-DE43586E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3E8-12B7-40D4-9F55-EC388185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AA4-84A2-4941-A8FC-E7464B9E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B85-7F00-4544-BA03-766EA9E3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734-4EDA-4FD4-AFCA-6B174B9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DA-AA1A-4807-925D-FDEEAED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CC3-1CE2-40C0-B68B-9AE72CC7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112-9330-423C-99AA-59D33E8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44-A976-4E6E-8836-6ECE8F7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E71-604C-4F96-B582-31780AF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40044600"/>
            <a:ext cx="1026180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fld id="{4DB66B80-8AC5-4B99-A017-AC329E804ABC}" type="slidenum"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20"/>
          <p:cNvSpPr/>
          <p:nvPr/>
        </p:nvSpPr>
        <p:spPr>
          <a:xfrm>
            <a:off x="2135160" y="11748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20"/>
          <p:cNvSpPr/>
          <p:nvPr/>
        </p:nvSpPr>
        <p:spPr>
          <a:xfrm>
            <a:off x="2063880" y="18392760"/>
            <a:ext cx="13164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ixaDeTexto 62"/>
          <p:cNvSpPr/>
          <p:nvPr/>
        </p:nvSpPr>
        <p:spPr>
          <a:xfrm>
            <a:off x="28417680" y="4529160"/>
            <a:ext cx="31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GO/BRA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INSTITUI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5"/>
          <p:cNvSpPr/>
          <p:nvPr/>
        </p:nvSpPr>
        <p:spPr>
          <a:xfrm>
            <a:off x="4459320" y="3889440"/>
            <a:ext cx="234853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A UNIVERSIDA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O DEPARTA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TÍTULO DO TRABALH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9266400" y="32426280"/>
            <a:ext cx="182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0" y="27825840"/>
            <a:ext cx="72738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15998760" y="22366440"/>
            <a:ext cx="184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9"/>
          <p:cNvSpPr/>
          <p:nvPr/>
        </p:nvSpPr>
        <p:spPr>
          <a:xfrm>
            <a:off x="2463840" y="38068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0"/>
          <p:cNvSpPr/>
          <p:nvPr/>
        </p:nvSpPr>
        <p:spPr>
          <a:xfrm>
            <a:off x="2464200" y="38301480"/>
            <a:ext cx="23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6"/>
          <p:cNvSpPr/>
          <p:nvPr/>
        </p:nvSpPr>
        <p:spPr>
          <a:xfrm>
            <a:off x="1254240" y="37087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7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98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9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4"/>
          <p:cNvSpPr/>
          <p:nvPr/>
        </p:nvSpPr>
        <p:spPr>
          <a:xfrm>
            <a:off x="2131920" y="29109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27"/>
          <p:cNvSpPr/>
          <p:nvPr/>
        </p:nvSpPr>
        <p:spPr>
          <a:xfrm>
            <a:off x="16803720" y="13158720"/>
            <a:ext cx="147207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Conteúdo 53"/>
          <p:cNvSpPr/>
          <p:nvPr/>
        </p:nvSpPr>
        <p:spPr>
          <a:xfrm>
            <a:off x="1200240" y="12173040"/>
            <a:ext cx="14744520" cy="11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no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pôster deve ser preparado conforme a estrutura do resumo submetido ao IV Encontro Brasileiro de Pesquisadores em Cooperativismo. Desta forma o trabalho deve conter introdução, materiais e métodos, resultados e discussões e conclusões. Acrescente a bibliografia. Para mostrar os resultados poderão ser usados gráficos, figuras, fotografias e tabelas. Como o conteúdo do pôster deve ser visível a uma distância de pelo menos 2 metros, escreva o texto usando fontes de tamanho adequad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ve constar o objetivo – 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Conteúdo 53"/>
          <p:cNvSpPr/>
          <p:nvPr/>
        </p:nvSpPr>
        <p:spPr>
          <a:xfrm>
            <a:off x="843120" y="25317360"/>
            <a:ext cx="1501272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ve ser descrita a metodologia aplicada ao trabalho com dados acerca das amostras, os materiais utilizados (questionários, instrumentos de diagnósticos...) e os métodos utilizad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Conteúdo 53"/>
          <p:cNvSpPr/>
          <p:nvPr/>
        </p:nvSpPr>
        <p:spPr>
          <a:xfrm>
            <a:off x="17087760" y="26107920"/>
            <a:ext cx="14436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de cantos arredondados 33"/>
          <p:cNvSpPr/>
          <p:nvPr/>
        </p:nvSpPr>
        <p:spPr>
          <a:xfrm>
            <a:off x="700200" y="23388480"/>
            <a:ext cx="1525896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TERIAL E MÉTO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de cantos arredondados 34"/>
          <p:cNvSpPr/>
          <p:nvPr/>
        </p:nvSpPr>
        <p:spPr>
          <a:xfrm>
            <a:off x="914400" y="31532400"/>
            <a:ext cx="1518912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SULTADOS E DISCU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Conteúdo 53"/>
          <p:cNvSpPr/>
          <p:nvPr/>
        </p:nvSpPr>
        <p:spPr>
          <a:xfrm>
            <a:off x="16775280" y="25646040"/>
            <a:ext cx="1443672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de cantos arredondados 36"/>
          <p:cNvSpPr/>
          <p:nvPr/>
        </p:nvSpPr>
        <p:spPr>
          <a:xfrm>
            <a:off x="16848000" y="29460960"/>
            <a:ext cx="15364080" cy="157788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CONCLU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de cantos arredondados 37"/>
          <p:cNvSpPr/>
          <p:nvPr/>
        </p:nvSpPr>
        <p:spPr>
          <a:xfrm>
            <a:off x="16775280" y="36299880"/>
            <a:ext cx="1534932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FERÊ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Conteúdo 53"/>
          <p:cNvSpPr/>
          <p:nvPr/>
        </p:nvSpPr>
        <p:spPr>
          <a:xfrm>
            <a:off x="16803720" y="38087280"/>
            <a:ext cx="15013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7840"/>
                <a:tab algn="l" pos="86360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manho da letra mínimo de 44 – em ABNT e somente as que aparecerem no texto do pôster, ou as mais relev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Conteúdo 53"/>
          <p:cNvSpPr/>
          <p:nvPr/>
        </p:nvSpPr>
        <p:spPr>
          <a:xfrm>
            <a:off x="914400" y="33890040"/>
            <a:ext cx="1501452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seguir estão apresentados alguns resultados que foram obtidos em estudos específicos e eles aqui foram expressos em gráficos, mas também podem ser utilizadas tabelas e fo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53"/>
          <p:cNvSpPr/>
          <p:nvPr/>
        </p:nvSpPr>
        <p:spPr>
          <a:xfrm>
            <a:off x="16965720" y="31388040"/>
            <a:ext cx="150127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apresentação deste pôster ocorrerá no IV Encontro Brasileiro de Pesquisadores em Cooperativismo, que acontecerá do dia 20 à 22 de novembro de 2017 em Brasília/D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ço Reservado para Conteúdo 53"/>
          <p:cNvSpPr/>
          <p:nvPr/>
        </p:nvSpPr>
        <p:spPr>
          <a:xfrm>
            <a:off x="17016480" y="10847520"/>
            <a:ext cx="1501308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1"/>
          <p:cNvGraphicFramePr/>
          <p:nvPr/>
        </p:nvGraphicFramePr>
        <p:xfrm>
          <a:off x="19948680" y="13050720"/>
          <a:ext cx="8848440" cy="695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8680" y="13050720"/>
                    <a:ext cx="884844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Conteúdo 53"/>
          <p:cNvSpPr/>
          <p:nvPr/>
        </p:nvSpPr>
        <p:spPr>
          <a:xfrm>
            <a:off x="16987680" y="21745440"/>
            <a:ext cx="147002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Conteúdo 53"/>
          <p:cNvSpPr/>
          <p:nvPr/>
        </p:nvSpPr>
        <p:spPr>
          <a:xfrm>
            <a:off x="16775280" y="10877400"/>
            <a:ext cx="15012720" cy="10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Figura 01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xxxxxxxxxxxxxxxxxxxxxxxxxxxxxxxxx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: xxxxxxxxxxxxxxxx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de cantos arredondados 38"/>
          <p:cNvSpPr/>
          <p:nvPr/>
        </p:nvSpPr>
        <p:spPr>
          <a:xfrm>
            <a:off x="771480" y="10244160"/>
            <a:ext cx="1553364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3:26:40Z</dcterms:created>
  <dc:creator>Work</dc:creator>
  <dc:description/>
  <dc:language>en-US</dc:language>
  <cp:lastModifiedBy>Serviço Nacional de Aprendizagem do Cooperativismo</cp:lastModifiedBy>
  <dcterms:modified xsi:type="dcterms:W3CDTF">2019-09-05T19:32:02Z</dcterms:modified>
  <cp:revision>18</cp:revision>
  <dc:subject/>
  <dc:title>Slide 1</dc:title>
</cp:coreProperties>
</file>